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CB2-BC62-4637-8853-96015348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D2B-662B-4053-A2CD-A4AF886E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33F-219C-4A32-887C-A8E3113E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F24-B12B-4851-ACB8-652C0DA1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9C4-9DE6-419E-8C30-A11DBFF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AE7-CA23-43E3-BB7E-CDF6092C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F7E-201E-48FA-B934-BA5BC2B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0D8-852C-4C2B-867E-0F3A6D2C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122-9F46-4A59-82BC-C540FDC0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B50-FB00-45A2-BC67-0D26F048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727-23DB-4ACA-880A-5EE566F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550-9152-4AEE-803E-A099EAC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1F2E-EE47-475D-8542-3948F4C77FE3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79640" y="764640"/>
            <a:ext cx="467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Cuckoo"/>
              </a:rPr>
              <a:t>Principais Rios</a:t>
            </a:r>
            <a:br>
              <a:rPr sz="7200"/>
            </a:br>
            <a:r>
              <a:rPr b="1" lang="en-US" sz="7200" spc="-1" strike="noStrike">
                <a:solidFill>
                  <a:srgbClr val="333399"/>
                </a:solidFill>
                <a:latin typeface="Cuckoo"/>
              </a:rPr>
              <a:t>de Portug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3360" y="189000"/>
            <a:ext cx="3463920" cy="6480000"/>
            <a:chOff x="603360" y="189000"/>
            <a:chExt cx="3463920" cy="6480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03360" y="189000"/>
              <a:ext cx="317664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059280" y="5877000"/>
              <a:ext cx="100800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Mi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211640" y="4334040"/>
            <a:ext cx="4681440" cy="2336400"/>
            <a:chOff x="4211640" y="4334040"/>
            <a:chExt cx="4681440" cy="23364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875200" y="4334040"/>
              <a:ext cx="301788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211640" y="6027840"/>
              <a:ext cx="163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o Minho em Cami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87480"/>
            <a:ext cx="3274920" cy="668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ahoma"/>
              </a:rPr>
              <a:t>Rio luso-espanhol que serve de fronteira entre o norte de Portugal e a Galiza, de Melgaço até à foz, em Caminha. Nasce nos Montes Cantábricos, em Espanha, e o seu curso estende-se ao longo de cerca de 300 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3268800" cy="6667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L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io que atravessa toda a região do Minho. Nasce em Espanha e desagua no Oceano Atlântico, junto a Viana do Castelo, depois de ter percorrido cerca de 130 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195720" y="3884760"/>
            <a:ext cx="5834160" cy="2930040"/>
            <a:chOff x="3195720" y="3884760"/>
            <a:chExt cx="5834160" cy="29300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5219640" y="3884760"/>
              <a:ext cx="381024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195720" y="6172200"/>
              <a:ext cx="20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o Lima em Ponte da Bar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3317760" cy="676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6666"/>
                </a:solidFill>
                <a:latin typeface="Arial"/>
              </a:rPr>
              <a:t>Um dos maiores rios com 650 km de comprimento. Nasce em Espanha, na Serra de Urbião, e serve de fronteira desde Miranda do Douro até Barca de Alva. Desagua no Oceano Atlântico junto à cidade do Porto. Tem numerosos afluentes, e diversas barra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Do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27640" y="5052960"/>
            <a:ext cx="4587840" cy="1760760"/>
            <a:chOff x="4427640" y="5052960"/>
            <a:chExt cx="4587840" cy="17607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539040" y="5052960"/>
              <a:ext cx="24764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27640" y="5348160"/>
              <a:ext cx="2143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e do Douro o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produz o famoso vinho do Por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3289320" cy="6713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Mond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 maior rio inteiramente português. Nasce na Serra da Estrela e desagua no Oceano Atlântico, junto à cidade da Figueira da Foz, após um percurso de 220 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92560" y="3735360"/>
            <a:ext cx="5581440" cy="2930040"/>
            <a:chOff x="3292560" y="3735360"/>
            <a:chExt cx="5581440" cy="29300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5076720" y="3735360"/>
              <a:ext cx="379728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92560" y="6022800"/>
              <a:ext cx="18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o Mondego em Coimb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3317760" cy="6769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Te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6666"/>
                </a:solidFill>
                <a:latin typeface="Arial"/>
              </a:rPr>
              <a:t>Estendendo-se ao longo de 900 km, é o maior rio da Península Ibérica. Nasce na Serra de Albarracim, em Espanha, e desagua no Oceano Atlântico, em largo estuário, alguns quilómetros adiante de Lisboa, em S. Julião da Ba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627280" y="4941720"/>
            <a:ext cx="4103640" cy="1800360"/>
            <a:chOff x="2627280" y="4941720"/>
            <a:chExt cx="4103640" cy="180036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627280" y="502776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59280" y="4941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o Tejo, Vale de Santar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59280" y="4991040"/>
            <a:ext cx="4127400" cy="1758240"/>
            <a:chOff x="4859280" y="4991040"/>
            <a:chExt cx="4127400" cy="175824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6700680" y="4991040"/>
              <a:ext cx="22860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859280" y="5832360"/>
              <a:ext cx="18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Portas do Rodão, Vila Velha de Rod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3279600" cy="6693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S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io que nasce na Serra do Caldeirão e desagua no Oceano Atlântico por um largo estuário, em frente da cidade de Setúbal, após um percurso de 135 quiló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78000" y="3965400"/>
            <a:ext cx="5894640" cy="2881080"/>
            <a:chOff x="3078000" y="3965400"/>
            <a:chExt cx="5894640" cy="28810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211640" y="3965400"/>
              <a:ext cx="4761000" cy="27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78000" y="6203880"/>
              <a:ext cx="11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uário do S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3270240" cy="667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Gua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asce em Espanha e serve de fronteira com Portugal. Desagua em Vila Real de Santo António depois de ter percorrido 690 km. No seu leito está construída a barragem do Alqueva que criará o maior lago artificial da Europa e cuja água se destinará a abastecer e irrigar uma boa parte do Alent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53000" y="5078520"/>
            <a:ext cx="4395600" cy="1788480"/>
            <a:chOff x="4653000" y="5078520"/>
            <a:chExt cx="4395600" cy="178848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553080" y="5078520"/>
              <a:ext cx="24955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53000" y="5950080"/>
              <a:ext cx="190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coutim, na mar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 rio Guadi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Aproveitamento dos 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976640" y="1339920"/>
            <a:ext cx="3943440" cy="1695240"/>
            <a:chOff x="4976640" y="1339920"/>
            <a:chExt cx="3943440" cy="16952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443640" y="1339920"/>
              <a:ext cx="24764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976640" y="1866960"/>
              <a:ext cx="146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ção de ene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50840" y="1301760"/>
            <a:ext cx="4349880" cy="1695600"/>
            <a:chOff x="150840" y="1301760"/>
            <a:chExt cx="4349880" cy="16956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50840" y="1301760"/>
              <a:ext cx="24764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27280" y="18288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mazenamento de ág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6360" y="3429000"/>
            <a:ext cx="4221360" cy="3233880"/>
            <a:chOff x="4716360" y="3429000"/>
            <a:chExt cx="4221360" cy="323388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6465960" y="3429000"/>
              <a:ext cx="2471760" cy="32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16360" y="4587840"/>
              <a:ext cx="172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a de plantações e pom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63440" y="3352680"/>
            <a:ext cx="4121280" cy="3353040"/>
            <a:chOff x="163440" y="3352680"/>
            <a:chExt cx="4121280" cy="3353040"/>
          </a:xfrm>
        </p:grpSpPr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163440" y="3352680"/>
              <a:ext cx="228600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556000" y="4570560"/>
              <a:ext cx="172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astecimento de água às populaç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2:34:00Z</dcterms:created>
  <dc:creator>Pedro Miguel Barbosa Dias</dc:creator>
  <dc:description>Principais Rios de Portugal (Minho, Lima, Douro, Mondego, Tejo, Sado, Guardiana)</dc:description>
  <dc:language>en-US</dc:language>
  <cp:lastModifiedBy>Abotelho</cp:lastModifiedBy>
  <dcterms:modified xsi:type="dcterms:W3CDTF">2008-02-12T17:33:25Z</dcterms:modified>
  <cp:revision>13</cp:revision>
  <dc:subject>Principais Rios de Portugal (Minho, Lima, Douro, Mondego, Tejo, Sado, Guardiana)</dc:subject>
  <dc:title>Rios de Portugal</dc:title>
</cp:coreProperties>
</file>